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110-A43E-496B-8DDE-C57218D2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64F-8080-4A4A-A334-5D1CF210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237-748A-4498-B265-2E17205A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F10-6CB7-4395-8435-92246E6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2095-A6F8-4BBE-88F6-B1AD5B1D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F104-49E3-4358-AF5C-EB13A6B3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1EF-31E8-4E76-AE14-568CC29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BCA7-29B1-4AF1-8897-83002C3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D769-3C3B-42B9-A6AC-C15C17F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96D5-939C-4A5C-BEE9-9409DF8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35D-2528-45BC-B0C5-9D236F4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8B5-F6A7-4284-8033-6361DE1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00F-3B16-493B-A18B-6A14472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56E7-E51E-4FE5-9447-A4B0BB8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294-FCB8-49FC-8D04-37C3DE0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DC83-0B2E-454F-91A2-C962C7E3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BEEF-C623-45E1-A62C-E4ED2D89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D05-6463-40C7-8F5F-241340FF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494-B0DF-4408-9C6D-14A7D6B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9F6-3DEB-45DD-A143-F6225B7C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D80-9CB2-4171-9139-C24DCE13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D37-DD8C-48DB-9ADA-0A3D32F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EDE-B891-4460-A879-8C60EA19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EDF-E221-4E7F-B6FB-9BD46E6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176-76FD-4635-82B4-C2E9BE6F80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A5F2-3124-4F91-82FF-4D16FD6ECC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848720" cy="81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JARYAS O CANCIONES DE MUJERES DE TIPO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os vais, ¡oh señor!,                                “¿Qué haré yo, mam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ntes quiero besaros la boca roja,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mi amigo ya se va;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ermeja como la cúrcuma”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yo le quiero quieto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Si tanto no le amase!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señor Ibrahim,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“¡Mamá, qué amigo!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oh dulce nombre!,                                     bajo la guedejilla rubit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te a mí de noche.                                  el cuello al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quieres,                                              y la boca coloradita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reme a ti,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a don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 verte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 te amaré                                            “Decidme ¡oh gent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no es con la condición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¿qué os parec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que unas mis ajorcas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                       ¡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or Dios! Como mi señ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n mis pendientes”.                                su medicina no me da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84200" y="13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209520"/>
            <a:ext cx="8229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miguito, decíde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“¡Dime antes que te ma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 a tomarme,                                        ¡Quién soltó tus zaragüel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ésame la boc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No fue el amigo nuevo,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priétame los pechos;                              fue el antigu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junta ajorca y pendien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marido está ocupado”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queja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 improviso, besó mi boca,                       “Ven, hechice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e lo diré a mi madre”.                                   alba que está con tan bello fulg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uando viene pide amor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Por Dios!, me desahogué gritando,             “No dormiré, mamá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roto mi pecho,                                      al rayar el alb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herido mis labios                                  viene Abul_Q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me ha deshecho el collar!”                           con faz de aurora”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836640"/>
            <a:ext cx="67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aus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é haré o que será de mi amig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e vayas de mí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cómo llorar esta aus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ant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Ay de los ojos de la enamo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estás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amigo se ret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ién ocultó la lu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ra que se perd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errase el camino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20:02Z</dcterms:created>
  <dc:creator> </dc:creator>
  <dc:description/>
  <dc:language>en-US</dc:language>
  <cp:lastModifiedBy> </cp:lastModifiedBy>
  <dcterms:modified xsi:type="dcterms:W3CDTF">2007-10-03T23:01:01Z</dcterms:modified>
  <cp:revision>4</cp:revision>
  <dc:subject/>
  <dc:title>Diapositiva 1</dc:title>
</cp:coreProperties>
</file>